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0F0E1-9922-4037-AB9A-A6D8C7975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18510-BEBF-4F87-BF70-FF679DEE3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52C-E6F4-424B-A9C0-D37380CE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071-DD1D-4394-9509-95A8D4CE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6C4-E0B6-4A7C-9A39-3BC8330D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BEC-8B78-4C67-8FE6-168971B0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B6A-D969-4AFC-AC77-E9D48EAE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E1B-0248-43AD-9DB2-1542809C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333-08B9-40F3-BC10-80FB6540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676-D63E-42C2-AD9D-695E3A2E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860-4F3A-4F0D-8FC8-72230071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F99-9E2B-48E2-B1CF-5EE67753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09D7-8388-49D9-8750-92F5078B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B57-8572-45A8-AB51-7BCF5DA3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DC29C-84F5-4843-BBC9-0863A4AB8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Thinking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oing 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693360" y="640548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ra Bryce 10/06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e really didn’t expect this. We thought it’d be the typical economy type hotel. You know, nothing special, just a bed, a wardrobe and a shower in the room if you’re lucky. Well, the en suite bathroom was a big surprise, I can tell you. It’s twice the size of ours at home And as for the view from the balcony, it’s unbelievable. We really can’t compl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What are you think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gnitive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2174760"/>
            <a:ext cx="40402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text mod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othetical reasoning, apply prior knowledge, (predicting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relationships (context, language, func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el, man, ro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is positive emotion, B and C are neg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makes people feel these emotions in this context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hey express them in Englis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While you’re list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gnitive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2174760"/>
            <a:ext cx="30351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ductive reaso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erring, project relationships, apply knowled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ing, elimina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ductive reaso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362400" y="2174760"/>
            <a:ext cx="532440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idn’t expect.. thought it’d be’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real situation was different to how he thought it would 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hing special’ – ‘a big surprise’ ‘unbeliev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 = could be positive or negati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ne of voice sounds animated – probabl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sappoi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an’t compl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 – can’t be angry, must be imp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ransform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ltiple choice clo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FCE Use of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Creating a text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at’s being exp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out what’s being tes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monitoring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the model: does the new sentence preserve the original mean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432560" y="64990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eformul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e – pass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.the police stopped him..’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‘..he was stopped by police..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, past, future – tens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 haven’t seen her’  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‘I last saw her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rect speech – indirect spee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.I can’t remember..’ 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‘..he said couldn’t remember..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itive – neg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.I always stay..’   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‘...I never go...’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‘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.I forgot..’ 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‘..I couldn’t remember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rasal ver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.he’s making a recovery..’ 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‘..he’s getting over it..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fusing pai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oo or enough? so or such? –ed or –ing? gerund or infinitive? make or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– question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apted from C. Nuttall (199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Literal compreh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 is directly expressed in th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vid and I went on holiday to Spain for two weeks last summ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 Where did they go on holi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7476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eorganizing or reinterpreting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49080"/>
            <a:ext cx="822960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interpret information or pull it out from different parts of the text and put it together in a new w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e spent a few days with my cousin Juan and his family. His sons both speak English really well, but his daughter is very shy and didn’t talk to us muc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Q: How many children does Juan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Inferenc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what’s implied but not explicitly stated in the 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got lost in Madrid one day and had to ask for directions, but it took me a long time to approach someone as I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only been learning Spanish for a few weeks, and David kept complaining that we were going to be late for our dinner reserv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: How did the speaker fe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) embarras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B) anxio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) ti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makes a task difficul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346560" y="3600360"/>
            <a:ext cx="25128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valuat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what the writer’s trying to do and make judgements about how well he’s achieved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ow strong is the writer’s argument in favour of X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oes the writer present a balanced view of Z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ow far do your own experiences agree with 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ersonal respon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your reactions and feelings about th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ow would you have felt if you were character X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ould you like to live in Z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o you sympathize with the writer’s argu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How does the writer say what he 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86660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Show how the writer tries to convince us that the economic situation is actually beneficial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CE reading par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ltiple mat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-5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5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46936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hich of the people A-E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doesn’t mind what his children talk abou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ductive reason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e’s a fath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e has more than one chil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err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Calibri"/>
              </a:rPr>
              <a:t>Doesn’t min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– positive sense: he’s relaxed about it, it’s not importa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are / categorise / ran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Calibri"/>
              </a:rPr>
              <a:t>Doesn’t min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– I’m not bothered, it’s OK, it doesn’t matt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IKE---------DON’T MIND---------DON’T LI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 at all the 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gnitive function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stematic search, focusing atten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, elimin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text mod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4720" y="2174760"/>
            <a:ext cx="404172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n the texts, find parts which mention children + parents + tal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, where, who, w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Family feuds – or just lunch?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C - Andr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2174400"/>
            <a:ext cx="41878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Andrew finds meals difficult, but necessary. ‘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We’re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 always having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rows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, particularly when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the kids 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start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moaning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 about what’s on their plate.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 – Ger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Mealtimes were very formal occasions, and they provided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my parents 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with the opportunity to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interrogate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 me about everything I’d done that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 - A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Whilst the quality of the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kitchen table chat 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is not particularly high – a mixture of bad jokes, song lyrics and gossip –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 we 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are at least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communicating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, which is the main thing, so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it doesn’t matter to me 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what the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topic of conversation is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B - Ger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gnitive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, elimin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se, infer, comp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lking about wh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as a child vs. his own children – ‘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were.. my par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he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n’t fit the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Interrog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negative meaning, probably stressful  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ha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n’t fit the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C - Andr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gnitive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se, infer, elimin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e… the kids.. plate’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o, wher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its the question = he’s a father, present time, me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aving rows… moaning’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negative meanings, stressful / angry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n’t fit the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A - A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gnitive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se, inf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ductive reaso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4720" y="2174400"/>
            <a:ext cx="4041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We…  kitchen table chat…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o, where, whe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t ques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..communicating…’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positive meaning,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‘.. It doesn’t matter to me what the topic is..’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it’s not import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probably doesn’t mind what they talk about =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its the ques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Level of difficul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npu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- written, spoken, graphic, numeric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nsity and organization of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umber of sour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sk focus – language system, meaning, bo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vel of abstrac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gnitive func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amiliarity of langu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amiliarity of tas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me pressu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utpu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– written, spoken, graphic, numeric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248440" y="3409920"/>
            <a:ext cx="17301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rocess compe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bility to us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nowledge of social behaviours, concepts, language struc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fects – values, attitud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ility to express, interpret and deduce mean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kills – reading, writing, listening, spea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Breen and Candlin 1987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610320" y="5076720"/>
            <a:ext cx="207648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So the teacher ca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‘thinking aloud’ – talk through examples with the class, model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prompt questions vs. give the answer – guide students through tasks, help them notice own strengths/weaknes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ctivities that practice particular cognitive functions eg. comparing, categorizing, infer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write their own questions for texts – notice task rationale, question structure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tudents aware of what’s being t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: grammar, vocabulary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: compare, match, deduce, infer, reinterpret information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Task knowle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ntal ‘data base’ of different types of tas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’s the goal of the tas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I have to 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what cont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972040" y="3633840"/>
            <a:ext cx="2327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nking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Cognitive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Cognitive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n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ow am I going to do thi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ind similarities and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iminat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is is wrong/imposs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err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o maybe it means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zing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– what exactly is it composed of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tegoriz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se are all type X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nk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rom X to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ch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X goes with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bel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is is X and this is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ly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se the rule, facts you already kn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ypothetical reason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hat if…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ductive reasoning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o it must be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ing relationships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ords + context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develop a strate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3757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 your ti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ow am I going to do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eate a text mode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o, when, where, w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are op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strategy of eli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prior knowled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what do you know about the contex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sociolinguistic / pragmatic knowled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how do people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ress feeling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ry out transaction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 with each oth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linguistic knowled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typical vocabulary, grammatical stru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/>
          <a:stretch/>
        </p:blipFill>
        <p:spPr>
          <a:xfrm>
            <a:off x="7064280" y="1600200"/>
            <a:ext cx="13762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FCE listening par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FCE multiple choice list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hear this man talking about his hotel. How does he feel about his 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 imp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 disappoi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 ang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1019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1:08:00Z</dcterms:created>
  <dc:creator>sara bryce</dc:creator>
  <dc:description/>
  <dc:language>en-US</dc:language>
  <cp:lastModifiedBy>sara bryce</cp:lastModifiedBy>
  <dcterms:modified xsi:type="dcterms:W3CDTF">2011-06-10T14:46:50Z</dcterms:modified>
  <cp:revision>47</cp:revision>
  <dc:subject/>
  <dc:title>What makes a text difficult?</dc:title>
</cp:coreProperties>
</file>